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F66E7-4494-4029-BF8A-04D7B8E483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98997-8F18-4263-B1F9-A5B3EF9307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C0E13-FF8E-4855-B398-C0EA73637E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949C0-A411-49D7-AAA8-26406586B0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AF8CA-47F3-4133-A693-7E6A5D2F14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0CB6E-73F5-47C6-9441-26F58E7E5A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3834B-E011-496B-ACF3-A40D1D9926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9A27F-E1BC-417F-B7FF-7093474960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86207-2CA3-4DAA-BFCB-7773C0564B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45D42-AB79-4F8E-A36E-304D8CC6C8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CFD6F-6238-4374-B616-40C6F80AA8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07B3C-9240-4E24-B482-7D9B97A819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FACA47-18D8-4EFD-AC80-28E604300A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08660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872160"/>
            <a:ext cx="838224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212344-0D90-42E3-85D1-45C671AE62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08660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872160"/>
            <a:ext cx="409032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040" y="3872160"/>
            <a:ext cx="409032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31680A-F908-4506-A350-80CDB88230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08660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269892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15160" y="1523520"/>
            <a:ext cx="269892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9440" y="1523520"/>
            <a:ext cx="269892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872160"/>
            <a:ext cx="269892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15160" y="3872160"/>
            <a:ext cx="269892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9440" y="3872160"/>
            <a:ext cx="269892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C7F2B8-0F6A-4DD5-ABA9-6CD9383CBD9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08660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523520"/>
            <a:ext cx="838224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936942-74FA-49EA-9580-91A05825ECA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08660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301FF6-7123-4B6C-98A0-983EE3AFC7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08660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0EEBC9-E032-4A76-8281-C029BBBE4B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08660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53EA5D-F364-4B97-872D-45A0A1F88F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18960" y="609480"/>
            <a:ext cx="708660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506CF6-4806-4A7E-BEC6-499E6E2109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08660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872160"/>
            <a:ext cx="409032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A2241B-D006-4B28-8D9C-9CA39CEAD9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08660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040" y="3872160"/>
            <a:ext cx="409032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8499EA-276A-4BE4-A435-264E144A24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08660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872160"/>
            <a:ext cx="838224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995E91-E1D7-4EAD-B907-651AC36CA3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80880" y="1523520"/>
            <a:ext cx="838224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228600">
              <a:buClr>
                <a:srgbClr val="ed6b4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228600"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22860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4568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© and ® 2011 Vista Higher Learning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8076960" y="6248520"/>
            <a:ext cx="685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-</a:t>
            </a:r>
            <a:fld id="{C16CD4E9-4CC1-4EF7-B395-CDBF92F34ED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08660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13"/>
          <p:cNvSpPr/>
          <p:nvPr/>
        </p:nvSpPr>
        <p:spPr>
          <a:xfrm>
            <a:off x="380880" y="646200"/>
            <a:ext cx="609840" cy="503280"/>
          </a:xfrm>
          <a:prstGeom prst="rect">
            <a:avLst/>
          </a:prstGeom>
          <a:solidFill>
            <a:srgbClr val="ed6b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spAutoFit/>
          </a:bodyPr>
          <a:p>
            <a:pPr algn="ctr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6.1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Footer Placeholder 2"/>
          <p:cNvSpPr/>
          <p:nvPr/>
        </p:nvSpPr>
        <p:spPr>
          <a:xfrm>
            <a:off x="457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© and ® 2012 Vista Higher Learning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Slide Number Placeholder 3"/>
          <p:cNvSpPr/>
          <p:nvPr/>
        </p:nvSpPr>
        <p:spPr>
          <a:xfrm>
            <a:off x="8077320" y="62485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-</a:t>
            </a:r>
            <a:fld id="{25DA5A1B-38EC-429C-A1AB-9A83F8671D4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0866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100" spc="-1" strike="noStrike">
                <a:solidFill>
                  <a:srgbClr val="000000"/>
                </a:solidFill>
                <a:latin typeface="Arial"/>
              </a:rPr>
              <a:t>The subjunctive: impersonal expressions; </a:t>
            </a:r>
            <a:br>
              <a:rPr sz="2100"/>
            </a:br>
            <a:r>
              <a:rPr b="1" lang="it-IT" sz="2100" spc="-1" strike="noStrike">
                <a:solidFill>
                  <a:srgbClr val="000000"/>
                </a:solidFill>
                <a:latin typeface="Arial"/>
              </a:rPr>
              <a:t>will, opinion, and emotion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2"/>
          <p:cNvSpPr/>
          <p:nvPr/>
        </p:nvSpPr>
        <p:spPr>
          <a:xfrm>
            <a:off x="4267080" y="4038480"/>
            <a:ext cx="48006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Samir ne veut pas que son père </a:t>
            </a:r>
            <a:r>
              <a:rPr b="1" i="1" lang="en-US" sz="2100" spc="-1" strike="noStrike">
                <a:solidFill>
                  <a:srgbClr val="000000"/>
                </a:solidFill>
                <a:latin typeface="Times New Roman"/>
              </a:rPr>
              <a:t>ait 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honte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63" descr="DAC3_p196"/>
          <p:cNvPicPr/>
          <p:nvPr/>
        </p:nvPicPr>
        <p:blipFill>
          <a:blip r:embed="rId1"/>
          <a:stretch/>
        </p:blipFill>
        <p:spPr>
          <a:xfrm>
            <a:off x="762120" y="1838160"/>
            <a:ext cx="3504960" cy="27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ooter Placeholder 3"/>
          <p:cNvSpPr/>
          <p:nvPr/>
        </p:nvSpPr>
        <p:spPr>
          <a:xfrm>
            <a:off x="457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© and ® 2012 Vista Higher Learning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Slide Number Placeholder 4"/>
          <p:cNvSpPr/>
          <p:nvPr/>
        </p:nvSpPr>
        <p:spPr>
          <a:xfrm>
            <a:off x="8077320" y="62485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-</a:t>
            </a:r>
            <a:fld id="{30DA16B2-33B8-48BB-8AA2-A46C991F3B5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0866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100" spc="-1" strike="noStrike">
                <a:solidFill>
                  <a:srgbClr val="000000"/>
                </a:solidFill>
                <a:latin typeface="Arial"/>
              </a:rPr>
              <a:t>The subjunctive: impersonal expressions; </a:t>
            </a:r>
            <a:br>
              <a:rPr sz="2100"/>
            </a:br>
            <a:r>
              <a:rPr b="1" lang="it-IT" sz="2100" spc="-1" strike="noStrike">
                <a:solidFill>
                  <a:srgbClr val="000000"/>
                </a:solidFill>
                <a:latin typeface="Arial"/>
              </a:rPr>
              <a:t>will, opinion, and emotion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-228600">
              <a:spcBef>
                <a:spcPts val="751"/>
              </a:spcBef>
              <a:buClr>
                <a:srgbClr val="ed6b4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the main clause of a sentence expresses will or emotion, use the subjunctive in the subordinate cla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4"/>
          <p:cNvSpPr/>
          <p:nvPr/>
        </p:nvSpPr>
        <p:spPr>
          <a:xfrm>
            <a:off x="380880" y="2514600"/>
            <a:ext cx="8382240" cy="2357280"/>
          </a:xfrm>
          <a:prstGeom prst="roundRect">
            <a:avLst>
              <a:gd name="adj" fmla="val 22347"/>
            </a:avLst>
          </a:prstGeom>
          <a:solidFill>
            <a:srgbClr val="fff0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t">
            <a:noAutofit/>
          </a:bodyPr>
          <a:p>
            <a:pPr marL="801720">
              <a:tabLst>
                <a:tab algn="l" pos="0"/>
                <a:tab algn="l" pos="4797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Expressions of will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Expressions of emo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5"/>
          <p:cNvSpPr/>
          <p:nvPr/>
        </p:nvSpPr>
        <p:spPr>
          <a:xfrm>
            <a:off x="380880" y="3809880"/>
            <a:ext cx="8382240" cy="2590920"/>
          </a:xfrm>
          <a:prstGeom prst="roundRect">
            <a:avLst>
              <a:gd name="adj" fmla="val 22347"/>
            </a:avLst>
          </a:prstGeom>
          <a:solidFill>
            <a:srgbClr val="fef1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6"/>
          <p:cNvSpPr/>
          <p:nvPr/>
        </p:nvSpPr>
        <p:spPr>
          <a:xfrm>
            <a:off x="380880" y="3019320"/>
            <a:ext cx="8382240" cy="1781280"/>
          </a:xfrm>
          <a:prstGeom prst="rect">
            <a:avLst/>
          </a:prstGeom>
          <a:solidFill>
            <a:srgbClr val="fef1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380880" y="3035160"/>
          <a:ext cx="8382240" cy="3365640"/>
        </p:xfrm>
        <a:graphic>
          <a:graphicData uri="http://schemas.openxmlformats.org/drawingml/2006/table">
            <a:tbl>
              <a:tblPr/>
              <a:tblGrid>
                <a:gridCol w="4191120"/>
                <a:gridCol w="4191120"/>
              </a:tblGrid>
              <a:tr h="3365640">
                <a:tc>
                  <a:txBody>
                    <a:bodyPr lIns="45720" rIns="45720" tIns="137160" bIns="46800" anchor="t">
                      <a:noAutofit/>
                    </a:bodyPr>
                    <a:p>
                      <a:pPr marL="114480">
                        <a:spcBef>
                          <a:spcPts val="499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mander que… </a:t>
                      </a:r>
                      <a:r>
                        <a:rPr b="0" i="1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ask that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spcBef>
                          <a:spcPts val="499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ésirer que… </a:t>
                      </a:r>
                      <a:r>
                        <a:rPr b="0" i="1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desire that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spcBef>
                          <a:spcPts val="499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iger que… </a:t>
                      </a:r>
                      <a:r>
                        <a:rPr b="0" i="1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demand that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spcBef>
                          <a:spcPts val="499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éférer que… </a:t>
                      </a:r>
                      <a:r>
                        <a:rPr b="0" i="1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prefer that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spcBef>
                          <a:spcPts val="499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poser que… </a:t>
                      </a:r>
                      <a:r>
                        <a:rPr b="0" i="1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propose that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spcBef>
                          <a:spcPts val="499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ommander que… </a:t>
                      </a:r>
                      <a:r>
                        <a:rPr b="0" i="1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recommend that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spcBef>
                          <a:spcPts val="499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uhaiter que… </a:t>
                      </a:r>
                      <a:r>
                        <a:rPr b="0" i="1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hope that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spcBef>
                          <a:spcPts val="499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ggérer que… </a:t>
                      </a:r>
                      <a:r>
                        <a:rPr b="0" i="1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suggest that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spcBef>
                          <a:spcPts val="499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uloir que… </a:t>
                      </a:r>
                      <a:r>
                        <a:rPr b="0" i="1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want that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 w="13680">
                      <a:solidFill>
                        <a:srgbClr val="3c68a6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137160" bIns="46800" anchor="t">
                      <a:noAutofit/>
                    </a:bodyPr>
                    <a:p>
                      <a:pPr marL="114480">
                        <a:spcBef>
                          <a:spcPts val="499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imer que… </a:t>
                      </a:r>
                      <a:r>
                        <a:rPr b="0" i="1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like that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spcBef>
                          <a:spcPts val="499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oir peur que… </a:t>
                      </a:r>
                      <a:r>
                        <a:rPr b="0" i="1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be afraid that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spcBef>
                          <a:spcPts val="499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être content(e) que… </a:t>
                      </a:r>
                      <a:r>
                        <a:rPr b="0" i="1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be happy that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spcBef>
                          <a:spcPts val="499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être désolé(e) que… </a:t>
                      </a:r>
                      <a:r>
                        <a:rPr b="0" i="1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be sorry that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spcBef>
                          <a:spcPts val="499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être étonné(e) que… </a:t>
                      </a:r>
                      <a:r>
                        <a:rPr b="0" i="1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be surprised that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spcBef>
                          <a:spcPts val="499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être fâché(e) que… </a:t>
                      </a:r>
                      <a:r>
                        <a:rPr b="0" i="1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be mad that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spcBef>
                          <a:spcPts val="499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être fier/fière que… </a:t>
                      </a:r>
                      <a:r>
                        <a:rPr b="0" i="1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be proud that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spcBef>
                          <a:spcPts val="499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être ravi(e) que… </a:t>
                      </a:r>
                      <a:r>
                        <a:rPr b="0" i="1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be delighted that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spcBef>
                          <a:spcPts val="499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retter que… </a:t>
                      </a:r>
                      <a:r>
                        <a:rPr b="0" i="1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regret that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13680">
                      <a:solidFill>
                        <a:srgbClr val="3c68a6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Footer Placeholder 2"/>
          <p:cNvSpPr/>
          <p:nvPr/>
        </p:nvSpPr>
        <p:spPr>
          <a:xfrm>
            <a:off x="457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© and ® 2012 Vista Higher Learning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lide Number Placeholder 3"/>
          <p:cNvSpPr/>
          <p:nvPr/>
        </p:nvSpPr>
        <p:spPr>
          <a:xfrm>
            <a:off x="8077320" y="62485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-</a:t>
            </a:r>
            <a:fld id="{DDCBE6E7-42DA-4961-A26D-44CB3038559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0866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100" spc="-1" strike="noStrike">
                <a:solidFill>
                  <a:srgbClr val="000000"/>
                </a:solidFill>
                <a:latin typeface="Arial"/>
              </a:rPr>
              <a:t>The subjunctive: impersonal expressions; </a:t>
            </a:r>
            <a:br>
              <a:rPr sz="2100"/>
            </a:br>
            <a:r>
              <a:rPr b="1" lang="it-IT" sz="2100" spc="-1" strike="noStrike">
                <a:solidFill>
                  <a:srgbClr val="000000"/>
                </a:solidFill>
                <a:latin typeface="Arial"/>
              </a:rPr>
              <a:t>will, opinion, and emotion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723960" y="1692360"/>
          <a:ext cx="7696080" cy="2950920"/>
        </p:xfrm>
        <a:graphic>
          <a:graphicData uri="http://schemas.openxmlformats.org/drawingml/2006/table">
            <a:tbl>
              <a:tblPr/>
              <a:tblGrid>
                <a:gridCol w="2514600"/>
                <a:gridCol w="2666880"/>
                <a:gridCol w="2514600"/>
              </a:tblGrid>
              <a:tr h="415440">
                <a:tc>
                  <a:txBody>
                    <a:bodyPr lIns="0" rIns="0" tIns="0" bIns="0" anchor="t">
                      <a:noAutofit/>
                    </a:bodyPr>
                    <a:p>
                      <a:pPr marL="228600" indent="-228600" algn="ctr">
                        <a:spcAft>
                          <a:spcPts val="131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eeec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228600" indent="-228600" algn="ctr">
                        <a:lnSpc>
                          <a:spcPct val="100000"/>
                        </a:lnSpc>
                        <a:spcAft>
                          <a:spcPts val="131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ATTENTION!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38160">
                      <a:solidFill>
                        <a:srgbClr val="e6d099"/>
                      </a:solidFill>
                    </a:lnB>
                    <a:solidFill>
                      <a:srgbClr val="ed6b46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228600" indent="-228600" algn="ctr">
                        <a:spcAft>
                          <a:spcPts val="131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eeec6"/>
                    </a:solidFill>
                  </a:tcPr>
                </a:tc>
              </a:tr>
              <a:tr h="2535480">
                <a:tc gridSpan="3">
                  <a:txBody>
                    <a:bodyPr lIns="228600" rIns="228600" tIns="228600" bIns="137160" anchor="t">
                      <a:noAutofit/>
                    </a:bodyPr>
                    <a:p>
                      <a:pPr>
                        <a:tabLst>
                          <a:tab algn="l" pos="0"/>
                          <a:tab algn="ctr" pos="1776240"/>
                          <a:tab algn="l" pos="21686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verb </a:t>
                      </a: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mander 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 often used with an indirect object + </a:t>
                      </a: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 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 [</a:t>
                      </a:r>
                      <a:r>
                        <a:rPr b="0" i="1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ive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]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312"/>
                        </a:spcBef>
                        <a:tabLst>
                          <a:tab algn="l" pos="0"/>
                          <a:tab algn="ctr" pos="1776240"/>
                          <a:tab algn="l" pos="21686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pa nous demande de rentrer </a:t>
                      </a:r>
                      <a:br>
                        <a:rPr sz="2100"/>
                      </a:b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ant minuit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ctr" pos="1776240"/>
                          <a:tab algn="l" pos="21686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d is asking us to come home </a:t>
                      </a:r>
                      <a:br>
                        <a:rPr sz="2100"/>
                      </a:br>
                      <a:r>
                        <a:rPr b="0" i="1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fore midnight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28600" marR="228600">
                    <a:lnL>
                      <a:noFill/>
                    </a:lnL>
                    <a:lnR>
                      <a:noFill/>
                    </a:lnR>
                    <a:lnT w="38160">
                      <a:solidFill>
                        <a:srgbClr val="e6d099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eeec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Footer Placeholder 2"/>
          <p:cNvSpPr/>
          <p:nvPr/>
        </p:nvSpPr>
        <p:spPr>
          <a:xfrm>
            <a:off x="457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© and ® 2012 Vista Higher Learning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8077320" y="62485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-</a:t>
            </a:r>
            <a:fld id="{620469B8-A1DC-4572-BFDF-28B9210A72A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0866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100" spc="-1" strike="noStrike">
                <a:solidFill>
                  <a:srgbClr val="000000"/>
                </a:solidFill>
                <a:latin typeface="Arial"/>
              </a:rPr>
              <a:t>The subjunctive: impersonal expressions; </a:t>
            </a:r>
            <a:br>
              <a:rPr sz="2100"/>
            </a:br>
            <a:r>
              <a:rPr b="1" lang="it-IT" sz="2100" spc="-1" strike="noStrike">
                <a:solidFill>
                  <a:srgbClr val="000000"/>
                </a:solidFill>
                <a:latin typeface="Arial"/>
              </a:rPr>
              <a:t>will, opinion, and emotion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762120" y="1905120"/>
          <a:ext cx="8076960" cy="1904760"/>
        </p:xfrm>
        <a:graphic>
          <a:graphicData uri="http://schemas.openxmlformats.org/drawingml/2006/table">
            <a:tbl>
              <a:tblPr/>
              <a:tblGrid>
                <a:gridCol w="4190760"/>
                <a:gridCol w="3886200"/>
              </a:tblGrid>
              <a:tr h="1904760"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tre grand-père </a:t>
                      </a: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ésire qu’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n lui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nde 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site cet été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r grandfather wants us to visit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im this summer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 </a:t>
                      </a: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is ravie que 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us </a:t>
                      </a: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lions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ez notre oncle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’m delighted that we’re going to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r uncle’s house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Footer Placeholder 3"/>
          <p:cNvSpPr/>
          <p:nvPr/>
        </p:nvSpPr>
        <p:spPr>
          <a:xfrm>
            <a:off x="457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© and ® 2012 Vista Higher Learning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lide Number Placeholder 4"/>
          <p:cNvSpPr/>
          <p:nvPr/>
        </p:nvSpPr>
        <p:spPr>
          <a:xfrm>
            <a:off x="8077320" y="62485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-</a:t>
            </a:r>
            <a:fld id="{1B5794C5-7A2F-4553-A821-60D80F1C9B3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0866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100" spc="-1" strike="noStrike">
                <a:solidFill>
                  <a:srgbClr val="000000"/>
                </a:solidFill>
                <a:latin typeface="Arial"/>
              </a:rPr>
              <a:t>The subjunctive: impersonal expressions; </a:t>
            </a:r>
            <a:br>
              <a:rPr sz="2100"/>
            </a:br>
            <a:r>
              <a:rPr b="1" lang="it-IT" sz="2100" spc="-1" strike="noStrike">
                <a:solidFill>
                  <a:srgbClr val="000000"/>
                </a:solidFill>
                <a:latin typeface="Arial"/>
              </a:rPr>
              <a:t>will, opinion, and emotion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-228600">
              <a:buClr>
                <a:srgbClr val="ed6b4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hough the verb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spére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resses emotion, it does not trigger the subjun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2666880"/>
          <a:ext cx="8534160" cy="1905120"/>
        </p:xfrm>
        <a:graphic>
          <a:graphicData uri="http://schemas.openxmlformats.org/drawingml/2006/table">
            <a:tbl>
              <a:tblPr/>
              <a:tblGrid>
                <a:gridCol w="4114800"/>
                <a:gridCol w="4419360"/>
              </a:tblGrid>
              <a:tr h="1905120"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’</a:t>
                      </a: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spère 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ue le nouveau prof n’</a:t>
                      </a: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st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s trop strict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 hope that the new teacher isn’t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o strict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us </a:t>
                      </a: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spérons 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u’ils </a:t>
                      </a: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nt 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s citrons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à la supérette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e hope they have lemons at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e mini-market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Footer Placeholder 3"/>
          <p:cNvSpPr/>
          <p:nvPr/>
        </p:nvSpPr>
        <p:spPr>
          <a:xfrm>
            <a:off x="457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© and ® 2012 Vista Higher Learning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lide Number Placeholder 4"/>
          <p:cNvSpPr/>
          <p:nvPr/>
        </p:nvSpPr>
        <p:spPr>
          <a:xfrm>
            <a:off x="8077320" y="62485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-</a:t>
            </a:r>
            <a:fld id="{1FCD938C-3A6E-4941-B65A-101E9CD2629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0866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100" spc="-1" strike="noStrike">
                <a:solidFill>
                  <a:srgbClr val="000000"/>
                </a:solidFill>
                <a:latin typeface="Arial"/>
              </a:rPr>
              <a:t>The subjunctive: impersonal expressions; </a:t>
            </a:r>
            <a:br>
              <a:rPr sz="2100"/>
            </a:br>
            <a:r>
              <a:rPr b="1" lang="it-IT" sz="2100" spc="-1" strike="noStrike">
                <a:solidFill>
                  <a:srgbClr val="000000"/>
                </a:solidFill>
                <a:latin typeface="Arial"/>
              </a:rPr>
              <a:t>will, opinion, and emotion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da9"/>
                </a:solidFill>
                <a:latin typeface="Arial"/>
              </a:rPr>
              <a:t>Forms of the present subjunc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>
              <a:buClr>
                <a:srgbClr val="ed6b4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have already been using verb tenses in the indicative mood. You can also use French verbs in th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ubjunctiv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od, which is used to express an attitude, an opinion, or personal will, or to imply hypothesis or doub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Footer Placeholder 3"/>
          <p:cNvSpPr/>
          <p:nvPr/>
        </p:nvSpPr>
        <p:spPr>
          <a:xfrm>
            <a:off x="457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© and ® 2012 Vista Higher Learning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Slide Number Placeholder 4"/>
          <p:cNvSpPr/>
          <p:nvPr/>
        </p:nvSpPr>
        <p:spPr>
          <a:xfrm>
            <a:off x="8077320" y="62485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-</a:t>
            </a:r>
            <a:fld id="{892C62CE-1FB7-47DD-95A1-3730D9A8B3A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0866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100" spc="-1" strike="noStrike">
                <a:solidFill>
                  <a:srgbClr val="000000"/>
                </a:solidFill>
                <a:latin typeface="Arial"/>
              </a:rPr>
              <a:t>The subjunctive: impersonal expressions; </a:t>
            </a:r>
            <a:br>
              <a:rPr sz="2100"/>
            </a:br>
            <a:r>
              <a:rPr b="1" lang="it-IT" sz="2100" spc="-1" strike="noStrike">
                <a:solidFill>
                  <a:srgbClr val="000000"/>
                </a:solidFill>
                <a:latin typeface="Arial"/>
              </a:rPr>
              <a:t>will, opinion, and emotion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-228600">
              <a:spcBef>
                <a:spcPts val="751"/>
              </a:spcBef>
              <a:buClr>
                <a:srgbClr val="ed6b4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form the present subjunctive of most verbs, tak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ls/elle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m of the present indicative and add the subjunctive endings. Fo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u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use thei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mparfai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Footer Placeholder 2"/>
          <p:cNvSpPr/>
          <p:nvPr/>
        </p:nvSpPr>
        <p:spPr>
          <a:xfrm>
            <a:off x="457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© and ® 2012 Vista Higher Learning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Slide Number Placeholder 3"/>
          <p:cNvSpPr/>
          <p:nvPr/>
        </p:nvSpPr>
        <p:spPr>
          <a:xfrm>
            <a:off x="8077320" y="62485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-</a:t>
            </a:r>
            <a:fld id="{26B45B21-6579-4F87-90E3-4E148D21956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0866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100" spc="-1" strike="noStrike">
                <a:solidFill>
                  <a:srgbClr val="000000"/>
                </a:solidFill>
                <a:latin typeface="Arial"/>
              </a:rPr>
              <a:t>The subjunctive: impersonal expressions; </a:t>
            </a:r>
            <a:br>
              <a:rPr sz="2100"/>
            </a:br>
            <a:r>
              <a:rPr b="1" lang="it-IT" sz="2100" spc="-1" strike="noStrike">
                <a:solidFill>
                  <a:srgbClr val="000000"/>
                </a:solidFill>
                <a:latin typeface="Arial"/>
              </a:rPr>
              <a:t>will, opinion, and emotion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5"/>
          <p:cNvSpPr/>
          <p:nvPr/>
        </p:nvSpPr>
        <p:spPr>
          <a:xfrm>
            <a:off x="743040" y="1566720"/>
            <a:ext cx="7657920" cy="2548080"/>
          </a:xfrm>
          <a:prstGeom prst="roundRect">
            <a:avLst>
              <a:gd name="adj" fmla="val 22347"/>
            </a:avLst>
          </a:prstGeom>
          <a:solidFill>
            <a:srgbClr val="fff0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100" spc="-1" strike="noStrike">
                <a:solidFill>
                  <a:srgbClr val="000000"/>
                </a:solidFill>
                <a:latin typeface="Arial"/>
              </a:rPr>
              <a:t>The present subjunctiv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6"/>
          <p:cNvSpPr/>
          <p:nvPr/>
        </p:nvSpPr>
        <p:spPr>
          <a:xfrm>
            <a:off x="743040" y="2895480"/>
            <a:ext cx="7657920" cy="2743200"/>
          </a:xfrm>
          <a:prstGeom prst="roundRect">
            <a:avLst>
              <a:gd name="adj" fmla="val 22347"/>
            </a:avLst>
          </a:prstGeom>
          <a:solidFill>
            <a:srgbClr val="fef1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7"/>
          <p:cNvSpPr/>
          <p:nvPr/>
        </p:nvSpPr>
        <p:spPr>
          <a:xfrm>
            <a:off x="743040" y="2104920"/>
            <a:ext cx="7657920" cy="1629000"/>
          </a:xfrm>
          <a:prstGeom prst="rect">
            <a:avLst/>
          </a:prstGeom>
          <a:solidFill>
            <a:srgbClr val="fef1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743040" y="2108160"/>
          <a:ext cx="7638840" cy="3535560"/>
        </p:xfrm>
        <a:graphic>
          <a:graphicData uri="http://schemas.openxmlformats.org/drawingml/2006/table">
            <a:tbl>
              <a:tblPr/>
              <a:tblGrid>
                <a:gridCol w="1909800"/>
                <a:gridCol w="1909800"/>
                <a:gridCol w="1909440"/>
                <a:gridCol w="1909800"/>
              </a:tblGrid>
              <a:tr h="439560">
                <a:tc>
                  <a:txBody>
                    <a:bodyPr lIns="228600" rIns="90000" tIns="46800" bIns="46800" anchor="ctr">
                      <a:noAutofit/>
                    </a:bodyPr>
                    <a:p>
                      <a:pPr marL="114480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28600" marR="90000">
                    <a:lnL>
                      <a:noFill/>
                    </a:lnL>
                    <a:lnR w="13680">
                      <a:solidFill>
                        <a:srgbClr val="3c68a6"/>
                      </a:solidFill>
                    </a:lnR>
                    <a:lnT>
                      <a:noFill/>
                    </a:lnT>
                    <a:lnB w="13680">
                      <a:solidFill>
                        <a:srgbClr val="507bb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14480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l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c68a6"/>
                      </a:solidFill>
                    </a:lnL>
                    <a:lnR w="13680">
                      <a:solidFill>
                        <a:srgbClr val="3c68a6"/>
                      </a:solidFill>
                    </a:lnR>
                    <a:lnT>
                      <a:noFill/>
                    </a:lnT>
                    <a:lnB w="13680">
                      <a:solidFill>
                        <a:srgbClr val="507bb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14480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i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c68a6"/>
                      </a:solidFill>
                    </a:lnL>
                    <a:lnR w="13680">
                      <a:solidFill>
                        <a:srgbClr val="3c68a6"/>
                      </a:solidFill>
                    </a:lnR>
                    <a:lnT>
                      <a:noFill/>
                    </a:lnT>
                    <a:lnB w="13680">
                      <a:solidFill>
                        <a:srgbClr val="507bb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14480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tend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c68a6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507bb6"/>
                      </a:solidFill>
                    </a:lnB>
                    <a:noFill/>
                  </a:tcPr>
                </a:tc>
              </a:tr>
              <a:tr h="3096000">
                <a:tc>
                  <a:txBody>
                    <a:bodyPr lIns="90000" rIns="90000" tIns="228600" bIns="91440" anchor="t">
                      <a:noAutofit/>
                    </a:bodyPr>
                    <a:p>
                      <a:pPr marL="114480">
                        <a:spcBef>
                          <a:spcPts val="561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spcBef>
                          <a:spcPts val="561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e je/j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spcBef>
                          <a:spcPts val="561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e t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spcBef>
                          <a:spcPts val="561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’il/el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spcBef>
                          <a:spcPts val="561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e no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spcBef>
                          <a:spcPts val="561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e vo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spcBef>
                          <a:spcPts val="561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’ils/el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3c68a6"/>
                      </a:solidFill>
                    </a:lnR>
                    <a:lnT w="13680">
                      <a:solidFill>
                        <a:srgbClr val="507bb6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28600" bIns="91440" anchor="t">
                      <a:noAutofit/>
                    </a:bodyPr>
                    <a:p>
                      <a:pPr marL="114480">
                        <a:spcBef>
                          <a:spcPts val="561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eb5737"/>
                          </a:solidFill>
                          <a:latin typeface="Arial"/>
                        </a:rPr>
                        <a:t>parl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spcBef>
                          <a:spcPts val="561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l</a:t>
                      </a:r>
                      <a:r>
                        <a:rPr b="1" lang="en-US" sz="1800" spc="-1" strike="noStrike">
                          <a:solidFill>
                            <a:srgbClr val="eb5737"/>
                          </a:solidFill>
                          <a:latin typeface="Arial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spcBef>
                          <a:spcPts val="561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l</a:t>
                      </a:r>
                      <a:r>
                        <a:rPr b="1" lang="en-US" sz="1800" spc="-1" strike="noStrike">
                          <a:solidFill>
                            <a:srgbClr val="eb5737"/>
                          </a:solidFill>
                          <a:latin typeface="Arial"/>
                        </a:rPr>
                        <a:t>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spcBef>
                          <a:spcPts val="561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l</a:t>
                      </a:r>
                      <a:r>
                        <a:rPr b="1" lang="en-US" sz="1800" spc="-1" strike="noStrike">
                          <a:solidFill>
                            <a:srgbClr val="eb5737"/>
                          </a:solidFill>
                          <a:latin typeface="Arial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spcBef>
                          <a:spcPts val="561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eb5737"/>
                          </a:solidFill>
                          <a:latin typeface="Arial"/>
                        </a:rPr>
                        <a:t>parl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spcBef>
                          <a:spcPts val="561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eb5737"/>
                          </a:solidFill>
                          <a:latin typeface="Arial"/>
                        </a:rPr>
                        <a:t>parlie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spcBef>
                          <a:spcPts val="561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l</a:t>
                      </a:r>
                      <a:r>
                        <a:rPr b="1" lang="en-US" sz="1800" spc="-1" strike="noStrike">
                          <a:solidFill>
                            <a:srgbClr val="eb5737"/>
                          </a:solidFill>
                          <a:latin typeface="Arial"/>
                        </a:rPr>
                        <a:t>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c68a6"/>
                      </a:solidFill>
                    </a:lnL>
                    <a:lnR w="13680">
                      <a:solidFill>
                        <a:srgbClr val="3c68a6"/>
                      </a:solidFill>
                    </a:lnR>
                    <a:lnT w="13680">
                      <a:solidFill>
                        <a:srgbClr val="507bb6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28600" bIns="91440" anchor="t">
                      <a:noAutofit/>
                    </a:bodyPr>
                    <a:p>
                      <a:pPr marL="114480">
                        <a:spcBef>
                          <a:spcPts val="561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eb5737"/>
                          </a:solidFill>
                          <a:latin typeface="Arial"/>
                        </a:rPr>
                        <a:t>finiss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spcBef>
                          <a:spcPts val="561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iss</a:t>
                      </a:r>
                      <a:r>
                        <a:rPr b="1" lang="en-US" sz="1800" spc="-1" strike="noStrike">
                          <a:solidFill>
                            <a:srgbClr val="eb5737"/>
                          </a:solidFill>
                          <a:latin typeface="Arial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spcBef>
                          <a:spcPts val="561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iss</a:t>
                      </a:r>
                      <a:r>
                        <a:rPr b="1" lang="en-US" sz="1800" spc="-1" strike="noStrike">
                          <a:solidFill>
                            <a:srgbClr val="eb5737"/>
                          </a:solidFill>
                          <a:latin typeface="Arial"/>
                        </a:rPr>
                        <a:t>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spcBef>
                          <a:spcPts val="561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iss</a:t>
                      </a:r>
                      <a:r>
                        <a:rPr b="1" lang="en-US" sz="1800" spc="-1" strike="noStrike">
                          <a:solidFill>
                            <a:srgbClr val="eb5737"/>
                          </a:solidFill>
                          <a:latin typeface="Arial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spcBef>
                          <a:spcPts val="561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eb5737"/>
                          </a:solidFill>
                          <a:latin typeface="Arial"/>
                        </a:rPr>
                        <a:t>fini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spcBef>
                          <a:spcPts val="561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eb5737"/>
                          </a:solidFill>
                          <a:latin typeface="Arial"/>
                        </a:rPr>
                        <a:t>finissie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spcBef>
                          <a:spcPts val="561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iss</a:t>
                      </a:r>
                      <a:r>
                        <a:rPr b="1" lang="en-US" sz="1800" spc="-1" strike="noStrike">
                          <a:solidFill>
                            <a:srgbClr val="eb5737"/>
                          </a:solidFill>
                          <a:latin typeface="Arial"/>
                        </a:rPr>
                        <a:t>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c68a6"/>
                      </a:solidFill>
                    </a:lnL>
                    <a:lnR w="13680">
                      <a:solidFill>
                        <a:srgbClr val="3c68a6"/>
                      </a:solidFill>
                    </a:lnR>
                    <a:lnT w="13680">
                      <a:solidFill>
                        <a:srgbClr val="507bb6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28600" bIns="91440" anchor="t">
                      <a:noAutofit/>
                    </a:bodyPr>
                    <a:p>
                      <a:pPr marL="114480">
                        <a:spcBef>
                          <a:spcPts val="561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eb5737"/>
                          </a:solidFill>
                          <a:latin typeface="Arial"/>
                        </a:rPr>
                        <a:t>attend</a:t>
                      </a: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spcBef>
                          <a:spcPts val="561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tend</a:t>
                      </a:r>
                      <a:r>
                        <a:rPr b="1" lang="fr-FR" sz="1800" spc="-1" strike="noStrike">
                          <a:solidFill>
                            <a:srgbClr val="eb5737"/>
                          </a:solidFill>
                          <a:latin typeface="Arial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spcBef>
                          <a:spcPts val="561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tend</a:t>
                      </a:r>
                      <a:r>
                        <a:rPr b="1" lang="fr-FR" sz="1800" spc="-1" strike="noStrike">
                          <a:solidFill>
                            <a:srgbClr val="eb5737"/>
                          </a:solidFill>
                          <a:latin typeface="Arial"/>
                        </a:rPr>
                        <a:t>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spcBef>
                          <a:spcPts val="561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tend</a:t>
                      </a:r>
                      <a:r>
                        <a:rPr b="1" lang="fr-FR" sz="1800" spc="-1" strike="noStrike">
                          <a:solidFill>
                            <a:srgbClr val="eb5737"/>
                          </a:solidFill>
                          <a:latin typeface="Arial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spcBef>
                          <a:spcPts val="561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eb5737"/>
                          </a:solidFill>
                          <a:latin typeface="Arial"/>
                        </a:rPr>
                        <a:t>attend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spcBef>
                          <a:spcPts val="561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eb5737"/>
                          </a:solidFill>
                          <a:latin typeface="Arial"/>
                        </a:rPr>
                        <a:t>attendie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spcBef>
                          <a:spcPts val="561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tend</a:t>
                      </a:r>
                      <a:r>
                        <a:rPr b="1" lang="fr-FR" sz="1800" spc="-1" strike="noStrike">
                          <a:solidFill>
                            <a:srgbClr val="eb5737"/>
                          </a:solidFill>
                          <a:latin typeface="Arial"/>
                        </a:rPr>
                        <a:t>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c68a6"/>
                      </a:solidFill>
                    </a:lnL>
                    <a:lnR>
                      <a:noFill/>
                    </a:lnR>
                    <a:lnT w="13680">
                      <a:solidFill>
                        <a:srgbClr val="507bb6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" name="Line 61"/>
          <p:cNvSpPr/>
          <p:nvPr/>
        </p:nvSpPr>
        <p:spPr>
          <a:xfrm>
            <a:off x="3265560" y="295740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62"/>
          <p:cNvSpPr/>
          <p:nvPr/>
        </p:nvSpPr>
        <p:spPr>
          <a:xfrm>
            <a:off x="5342040" y="296064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63"/>
          <p:cNvSpPr/>
          <p:nvPr/>
        </p:nvSpPr>
        <p:spPr>
          <a:xfrm>
            <a:off x="7356600" y="295596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Footer Placeholder 3"/>
          <p:cNvSpPr/>
          <p:nvPr/>
        </p:nvSpPr>
        <p:spPr>
          <a:xfrm>
            <a:off x="457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© and ® 2012 Vista Higher Learning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Slide Number Placeholder 4"/>
          <p:cNvSpPr/>
          <p:nvPr/>
        </p:nvSpPr>
        <p:spPr>
          <a:xfrm>
            <a:off x="8077320" y="62485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-</a:t>
            </a:r>
            <a:fld id="{40BB7EC8-5632-4B11-8B5C-E973E443E01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0866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100" spc="-1" strike="noStrike">
                <a:solidFill>
                  <a:srgbClr val="000000"/>
                </a:solidFill>
                <a:latin typeface="Arial"/>
              </a:rPr>
              <a:t>The subjunctive: impersonal expressions; </a:t>
            </a:r>
            <a:br>
              <a:rPr sz="2100"/>
            </a:br>
            <a:r>
              <a:rPr b="1" lang="it-IT" sz="2100" spc="-1" strike="noStrike">
                <a:solidFill>
                  <a:srgbClr val="000000"/>
                </a:solidFill>
                <a:latin typeface="Arial"/>
              </a:rPr>
              <a:t>will, opinion, and emotion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-228600">
              <a:spcBef>
                <a:spcPts val="751"/>
              </a:spcBef>
              <a:buClr>
                <a:srgbClr val="ed6b4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pattern to form the subjunctive of verbs with spelling or stem chan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711360" y="2743200"/>
          <a:ext cx="8001000" cy="1600200"/>
        </p:xfrm>
        <a:graphic>
          <a:graphicData uri="http://schemas.openxmlformats.org/drawingml/2006/table">
            <a:tbl>
              <a:tblPr/>
              <a:tblGrid>
                <a:gridCol w="1726920"/>
                <a:gridCol w="6274080"/>
              </a:tblGrid>
              <a:tr h="1618920"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he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61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oi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61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nd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61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evoi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hèt</a:t>
                      </a:r>
                      <a:r>
                        <a:rPr b="1" lang="en-US" sz="1800" spc="-1" strike="noStrike">
                          <a:solidFill>
                            <a:srgbClr val="eb5737"/>
                          </a:solidFill>
                          <a:latin typeface="Arial"/>
                        </a:rPr>
                        <a:t>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achèt</a:t>
                      </a:r>
                      <a:r>
                        <a:rPr b="1" lang="en-US" sz="1800" spc="-1" strike="noStrike">
                          <a:solidFill>
                            <a:srgbClr val="eb5737"/>
                          </a:solidFill>
                          <a:latin typeface="Arial"/>
                        </a:rPr>
                        <a:t>es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achèt</a:t>
                      </a:r>
                      <a:r>
                        <a:rPr b="1" lang="en-US" sz="1800" spc="-1" strike="noStrike">
                          <a:solidFill>
                            <a:srgbClr val="eb5737"/>
                          </a:solidFill>
                          <a:latin typeface="Arial"/>
                        </a:rPr>
                        <a:t>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eb5737"/>
                          </a:solidFill>
                          <a:latin typeface="Arial"/>
                        </a:rPr>
                        <a:t>achetions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eb5737"/>
                          </a:solidFill>
                          <a:latin typeface="Arial"/>
                        </a:rPr>
                        <a:t>achetiez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achèt</a:t>
                      </a:r>
                      <a:r>
                        <a:rPr b="1" lang="en-US" sz="1800" spc="-1" strike="noStrike">
                          <a:solidFill>
                            <a:srgbClr val="eb5737"/>
                          </a:solidFill>
                          <a:latin typeface="Arial"/>
                        </a:rPr>
                        <a:t>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61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oi</a:t>
                      </a:r>
                      <a:r>
                        <a:rPr b="1" lang="en-US" sz="1800" spc="-1" strike="noStrike">
                          <a:solidFill>
                            <a:srgbClr val="eb5737"/>
                          </a:solidFill>
                          <a:latin typeface="Arial"/>
                        </a:rPr>
                        <a:t>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croi</a:t>
                      </a:r>
                      <a:r>
                        <a:rPr b="1" lang="en-US" sz="1800" spc="-1" strike="noStrike">
                          <a:solidFill>
                            <a:srgbClr val="eb5737"/>
                          </a:solidFill>
                          <a:latin typeface="Arial"/>
                        </a:rPr>
                        <a:t>es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croi</a:t>
                      </a:r>
                      <a:r>
                        <a:rPr b="1" lang="en-US" sz="1800" spc="-1" strike="noStrike">
                          <a:solidFill>
                            <a:srgbClr val="eb5737"/>
                          </a:solidFill>
                          <a:latin typeface="Arial"/>
                        </a:rPr>
                        <a:t>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eb5737"/>
                          </a:solidFill>
                          <a:latin typeface="Arial"/>
                        </a:rPr>
                        <a:t>croyions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eb5737"/>
                          </a:solidFill>
                          <a:latin typeface="Arial"/>
                        </a:rPr>
                        <a:t>croyiez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croi</a:t>
                      </a:r>
                      <a:r>
                        <a:rPr b="1" lang="en-US" sz="1800" spc="-1" strike="noStrike">
                          <a:solidFill>
                            <a:srgbClr val="eb5737"/>
                          </a:solidFill>
                          <a:latin typeface="Arial"/>
                        </a:rPr>
                        <a:t>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61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nn</a:t>
                      </a:r>
                      <a:r>
                        <a:rPr b="1" lang="en-US" sz="1800" spc="-1" strike="noStrike">
                          <a:solidFill>
                            <a:srgbClr val="eb5737"/>
                          </a:solidFill>
                          <a:latin typeface="Arial"/>
                        </a:rPr>
                        <a:t>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prenn</a:t>
                      </a:r>
                      <a:r>
                        <a:rPr b="1" lang="en-US" sz="1800" spc="-1" strike="noStrike">
                          <a:solidFill>
                            <a:srgbClr val="eb5737"/>
                          </a:solidFill>
                          <a:latin typeface="Arial"/>
                        </a:rPr>
                        <a:t>es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prenn</a:t>
                      </a:r>
                      <a:r>
                        <a:rPr b="1" lang="en-US" sz="1800" spc="-1" strike="noStrike">
                          <a:solidFill>
                            <a:srgbClr val="eb5737"/>
                          </a:solidFill>
                          <a:latin typeface="Arial"/>
                        </a:rPr>
                        <a:t>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eb5737"/>
                          </a:solidFill>
                          <a:latin typeface="Arial"/>
                        </a:rPr>
                        <a:t>prenions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eb5737"/>
                          </a:solidFill>
                          <a:latin typeface="Arial"/>
                        </a:rPr>
                        <a:t>preniez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prenn</a:t>
                      </a:r>
                      <a:r>
                        <a:rPr b="1" lang="en-US" sz="1800" spc="-1" strike="noStrike">
                          <a:solidFill>
                            <a:srgbClr val="eb5737"/>
                          </a:solidFill>
                          <a:latin typeface="Arial"/>
                        </a:rPr>
                        <a:t>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61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çoiv</a:t>
                      </a:r>
                      <a:r>
                        <a:rPr b="1" lang="en-US" sz="1800" spc="-1" strike="noStrike">
                          <a:solidFill>
                            <a:srgbClr val="eb5737"/>
                          </a:solidFill>
                          <a:latin typeface="Arial"/>
                        </a:rPr>
                        <a:t>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reçoiv</a:t>
                      </a:r>
                      <a:r>
                        <a:rPr b="1" lang="en-US" sz="1800" spc="-1" strike="noStrike">
                          <a:solidFill>
                            <a:srgbClr val="eb5737"/>
                          </a:solidFill>
                          <a:latin typeface="Arial"/>
                        </a:rPr>
                        <a:t>es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reçoiv</a:t>
                      </a:r>
                      <a:r>
                        <a:rPr b="1" lang="en-US" sz="1800" spc="-1" strike="noStrike">
                          <a:solidFill>
                            <a:srgbClr val="eb5737"/>
                          </a:solidFill>
                          <a:latin typeface="Arial"/>
                        </a:rPr>
                        <a:t>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eb5737"/>
                          </a:solidFill>
                          <a:latin typeface="Arial"/>
                        </a:rPr>
                        <a:t>recevions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eb5737"/>
                          </a:solidFill>
                          <a:latin typeface="Arial"/>
                        </a:rPr>
                        <a:t>receviez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reçoiv</a:t>
                      </a:r>
                      <a:r>
                        <a:rPr b="1" lang="en-US" sz="1800" spc="-1" strike="noStrike">
                          <a:solidFill>
                            <a:srgbClr val="eb5737"/>
                          </a:solidFill>
                          <a:latin typeface="Arial"/>
                        </a:rPr>
                        <a:t>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6" name="Picture 81" descr="p101"/>
          <p:cNvPicPr/>
          <p:nvPr/>
        </p:nvPicPr>
        <p:blipFill>
          <a:blip r:embed="rId1"/>
          <a:stretch/>
        </p:blipFill>
        <p:spPr>
          <a:xfrm>
            <a:off x="1535040" y="2874960"/>
            <a:ext cx="738360" cy="13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Footer Placeholder 3"/>
          <p:cNvSpPr/>
          <p:nvPr/>
        </p:nvSpPr>
        <p:spPr>
          <a:xfrm>
            <a:off x="457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© and ® 2012 Vista Higher Learning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Slide Number Placeholder 4"/>
          <p:cNvSpPr/>
          <p:nvPr/>
        </p:nvSpPr>
        <p:spPr>
          <a:xfrm>
            <a:off x="8077320" y="62485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-</a:t>
            </a:r>
            <a:fld id="{C8C0F7C8-EC75-4A29-8C91-FC16CF1C2AC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0866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100" spc="-1" strike="noStrike">
                <a:solidFill>
                  <a:srgbClr val="000000"/>
                </a:solidFill>
                <a:latin typeface="Arial"/>
              </a:rPr>
              <a:t>The subjunctive: impersonal expressions; </a:t>
            </a:r>
            <a:br>
              <a:rPr sz="2100"/>
            </a:br>
            <a:r>
              <a:rPr b="1" lang="it-IT" sz="2100" spc="-1" strike="noStrike">
                <a:solidFill>
                  <a:srgbClr val="000000"/>
                </a:solidFill>
                <a:latin typeface="Arial"/>
              </a:rPr>
              <a:t>will, opinion, and emotion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-228600">
              <a:spcBef>
                <a:spcPts val="751"/>
              </a:spcBef>
              <a:buClr>
                <a:srgbClr val="ed6b4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verbs are unpredictably irregular in the present subjun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711360" y="2666880"/>
          <a:ext cx="8038800" cy="2835360"/>
        </p:xfrm>
        <a:graphic>
          <a:graphicData uri="http://schemas.openxmlformats.org/drawingml/2006/table">
            <a:tbl>
              <a:tblPr/>
              <a:tblGrid>
                <a:gridCol w="1714320"/>
                <a:gridCol w="6324480"/>
              </a:tblGrid>
              <a:tr h="2869560"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61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oi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61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êt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61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i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61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uvoi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61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voi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61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uloi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ille, ailles, aille, allions, alliez, aill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61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ie, aies, ait, ayons, ayez, ai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61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is, sois, soit, soyons, soyez, soi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61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sse, fasses, fasse, fassions, fassiez, fass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61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isse, puisses, puisse, puissions, puissiez, puiss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61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che, saches, sache, sachions, sachiez, sach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61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uille, veuilles, veuille, voulions, vouliez, veuill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82" name="Picture 81" descr="p101"/>
          <p:cNvPicPr/>
          <p:nvPr/>
        </p:nvPicPr>
        <p:blipFill>
          <a:blip r:embed="rId1"/>
          <a:stretch/>
        </p:blipFill>
        <p:spPr>
          <a:xfrm>
            <a:off x="1523880" y="3452760"/>
            <a:ext cx="738360" cy="13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Footer Placeholder 3"/>
          <p:cNvSpPr/>
          <p:nvPr/>
        </p:nvSpPr>
        <p:spPr>
          <a:xfrm>
            <a:off x="457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© and ® 2012 Vista Higher Learning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Slide Number Placeholder 4"/>
          <p:cNvSpPr/>
          <p:nvPr/>
        </p:nvSpPr>
        <p:spPr>
          <a:xfrm>
            <a:off x="8077320" y="62485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-</a:t>
            </a:r>
            <a:fld id="{80ABE349-970B-4E2A-A10D-4131DF8CF26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0866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100" spc="-1" strike="noStrike">
                <a:solidFill>
                  <a:srgbClr val="000000"/>
                </a:solidFill>
                <a:latin typeface="Arial"/>
              </a:rPr>
              <a:t>The subjunctive: impersonal expressions; </a:t>
            </a:r>
            <a:br>
              <a:rPr sz="2100"/>
            </a:br>
            <a:r>
              <a:rPr b="1" lang="it-IT" sz="2100" spc="-1" strike="noStrike">
                <a:solidFill>
                  <a:srgbClr val="000000"/>
                </a:solidFill>
                <a:latin typeface="Arial"/>
              </a:rPr>
              <a:t>will, opinion, and emotion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da9"/>
                </a:solidFill>
                <a:latin typeface="Arial"/>
              </a:rPr>
              <a:t>Impersonal expressions and verbs of will and emo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>
              <a:buClr>
                <a:srgbClr val="ed6b4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 calling for the subjunctive fit the pattern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ain clau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] 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 [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ubordinate clau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]. In each case, the subjects of the two clauses are different 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used to connect the clauses. Note that although the wor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a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optional in English, the wor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nno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omitted in Fren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711360" y="4648320"/>
          <a:ext cx="8305560" cy="1676160"/>
        </p:xfrm>
        <a:graphic>
          <a:graphicData uri="http://schemas.openxmlformats.org/drawingml/2006/table">
            <a:tbl>
              <a:tblPr/>
              <a:tblGrid>
                <a:gridCol w="2171520"/>
                <a:gridCol w="1714680"/>
                <a:gridCol w="4419360"/>
              </a:tblGrid>
              <a:tr h="1676160"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MAIN CLAU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l </a:t>
                      </a:r>
                      <a:r>
                        <a:rPr b="1" lang="en-US" sz="1800" spc="-1" strike="noStrike">
                          <a:solidFill>
                            <a:srgbClr val="eb5737"/>
                          </a:solidFill>
                          <a:latin typeface="Arial"/>
                        </a:rPr>
                        <a:t>est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étonna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 is surpris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CONNECT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tha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SUBORDINAT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CLAU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erry ne </a:t>
                      </a:r>
                      <a:r>
                        <a:rPr b="1" lang="en-US" sz="1800" spc="-1" strike="noStrike">
                          <a:solidFill>
                            <a:srgbClr val="eb5737"/>
                          </a:solidFill>
                          <a:latin typeface="Arial"/>
                        </a:rPr>
                        <a:t>connaiss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pas ses parent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erry doesn’t know his parent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Footer Placeholder 3"/>
          <p:cNvSpPr/>
          <p:nvPr/>
        </p:nvSpPr>
        <p:spPr>
          <a:xfrm>
            <a:off x="457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© and ® 2012 Vista Higher Learning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lide Number Placeholder 4"/>
          <p:cNvSpPr/>
          <p:nvPr/>
        </p:nvSpPr>
        <p:spPr>
          <a:xfrm>
            <a:off x="8077320" y="62485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-</a:t>
            </a:r>
            <a:fld id="{0071F0F0-1973-43C6-94AD-7B9C4CC8423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0866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100" spc="-1" strike="noStrike">
                <a:solidFill>
                  <a:srgbClr val="000000"/>
                </a:solidFill>
                <a:latin typeface="Arial"/>
              </a:rPr>
              <a:t>The subjunctive: impersonal expressions; </a:t>
            </a:r>
            <a:br>
              <a:rPr sz="2100"/>
            </a:br>
            <a:r>
              <a:rPr b="1" lang="it-IT" sz="2100" spc="-1" strike="noStrike">
                <a:solidFill>
                  <a:srgbClr val="000000"/>
                </a:solidFill>
                <a:latin typeface="Arial"/>
              </a:rPr>
              <a:t>will, opinion, and emotion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33160" y="1523520"/>
            <a:ext cx="876276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-228600">
              <a:spcBef>
                <a:spcPts val="751"/>
              </a:spcBef>
              <a:buClr>
                <a:srgbClr val="ed6b4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ubjunctive is used after many impersonal expressions that state an opin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14"/>
          <p:cNvSpPr/>
          <p:nvPr/>
        </p:nvSpPr>
        <p:spPr>
          <a:xfrm>
            <a:off x="304920" y="2481120"/>
            <a:ext cx="8610480" cy="2357640"/>
          </a:xfrm>
          <a:prstGeom prst="roundRect">
            <a:avLst>
              <a:gd name="adj" fmla="val 22347"/>
            </a:avLst>
          </a:prstGeom>
          <a:solidFill>
            <a:srgbClr val="fff0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mpersonal expressions followed by the subjun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15"/>
          <p:cNvSpPr/>
          <p:nvPr/>
        </p:nvSpPr>
        <p:spPr>
          <a:xfrm>
            <a:off x="304920" y="3929040"/>
            <a:ext cx="8610480" cy="2166840"/>
          </a:xfrm>
          <a:prstGeom prst="roundRect">
            <a:avLst>
              <a:gd name="adj" fmla="val 22347"/>
            </a:avLst>
          </a:prstGeom>
          <a:solidFill>
            <a:srgbClr val="fef1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6"/>
          <p:cNvSpPr/>
          <p:nvPr/>
        </p:nvSpPr>
        <p:spPr>
          <a:xfrm>
            <a:off x="304920" y="2986200"/>
            <a:ext cx="8610480" cy="1890720"/>
          </a:xfrm>
          <a:prstGeom prst="rect">
            <a:avLst/>
          </a:prstGeom>
          <a:solidFill>
            <a:srgbClr val="fef1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304920" y="2989440"/>
          <a:ext cx="8610480" cy="3106440"/>
        </p:xfrm>
        <a:graphic>
          <a:graphicData uri="http://schemas.openxmlformats.org/drawingml/2006/table">
            <a:tbl>
              <a:tblPr/>
              <a:tblGrid>
                <a:gridCol w="4228920"/>
                <a:gridCol w="4381560"/>
              </a:tblGrid>
              <a:tr h="3106440">
                <a:tc>
                  <a:txBody>
                    <a:bodyPr lIns="45720" rIns="45720" tIns="228600" bIns="46800" anchor="t">
                      <a:noAutofit/>
                    </a:bodyPr>
                    <a:p>
                      <a:pPr marL="463680" indent="-349200"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 n’est pas la peine que… </a:t>
                      </a:r>
                      <a:br>
                        <a:rPr sz="1600"/>
                      </a:br>
                      <a:r>
                        <a:rPr b="0" i="1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 is not worth the effort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63680" indent="-349200"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l est bon que… </a:t>
                      </a:r>
                      <a:r>
                        <a:rPr b="0" i="1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 is good that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63680" indent="-349200"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l est dommage que… </a:t>
                      </a:r>
                      <a:r>
                        <a:rPr b="0" i="1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 is a shame that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63680" indent="-349200"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l est essentiel que… </a:t>
                      </a:r>
                      <a:r>
                        <a:rPr b="0" i="1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 is essential that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63680" indent="-349200"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l est étonnant que… </a:t>
                      </a:r>
                      <a:r>
                        <a:rPr b="0" i="1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 is surprising that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63680" indent="-349200"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l est important que… </a:t>
                      </a:r>
                      <a:r>
                        <a:rPr b="0" i="1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 is </a:t>
                      </a:r>
                      <a:br>
                        <a:rPr sz="1600"/>
                      </a:br>
                      <a:r>
                        <a:rPr b="0" i="1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portant that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 w="13680">
                      <a:solidFill>
                        <a:srgbClr val="3c68a6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228600" bIns="46800" anchor="t">
                      <a:noAutofit/>
                    </a:bodyPr>
                    <a:p>
                      <a:pPr marL="463680" indent="-349200"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l est indispensable que…</a:t>
                      </a:r>
                      <a:br>
                        <a:rPr sz="1600"/>
                      </a:br>
                      <a:r>
                        <a:rPr b="0" i="1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 is essential that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63680" indent="-349200"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l est nécessaire que… </a:t>
                      </a:r>
                      <a:r>
                        <a:rPr b="0" i="1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 is necessary that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63680" indent="-349200"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l est possible que… </a:t>
                      </a:r>
                      <a:r>
                        <a:rPr b="0" i="1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 is possible that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63680" indent="-349200"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l est surprenant que… </a:t>
                      </a:r>
                      <a:r>
                        <a:rPr b="0" i="1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 is surprising that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63680" indent="-349200"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l faut que… </a:t>
                      </a:r>
                      <a:r>
                        <a:rPr b="0" i="1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e must… /</a:t>
                      </a:r>
                      <a:br>
                        <a:rPr sz="1600"/>
                      </a:br>
                      <a:r>
                        <a:rPr b="0" i="1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 is necessary that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63680" indent="-349200"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l vaut mieux que… </a:t>
                      </a:r>
                      <a:r>
                        <a:rPr b="0" i="1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 is better that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13680">
                      <a:solidFill>
                        <a:srgbClr val="3c68a6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ooter Placeholder 2"/>
          <p:cNvSpPr/>
          <p:nvPr/>
        </p:nvSpPr>
        <p:spPr>
          <a:xfrm>
            <a:off x="457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© and ® 2012 Vista Higher Learning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8077320" y="62485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-</a:t>
            </a:r>
            <a:fld id="{ABED9FE6-6D50-4A5F-A9B6-D116BF05B60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0866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100" spc="-1" strike="noStrike">
                <a:solidFill>
                  <a:srgbClr val="000000"/>
                </a:solidFill>
                <a:latin typeface="Arial"/>
              </a:rPr>
              <a:t>The subjunctive: impersonal expressions; </a:t>
            </a:r>
            <a:br>
              <a:rPr sz="2100"/>
            </a:br>
            <a:r>
              <a:rPr b="1" lang="it-IT" sz="2100" spc="-1" strike="noStrike">
                <a:solidFill>
                  <a:srgbClr val="000000"/>
                </a:solidFill>
                <a:latin typeface="Arial"/>
              </a:rPr>
              <a:t>will, opinion, and emotion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723960" y="1828800"/>
          <a:ext cx="7696080" cy="3751200"/>
        </p:xfrm>
        <a:graphic>
          <a:graphicData uri="http://schemas.openxmlformats.org/drawingml/2006/table">
            <a:tbl>
              <a:tblPr/>
              <a:tblGrid>
                <a:gridCol w="2514600"/>
                <a:gridCol w="2666880"/>
                <a:gridCol w="2514600"/>
              </a:tblGrid>
              <a:tr h="412560">
                <a:tc>
                  <a:txBody>
                    <a:bodyPr lIns="0" rIns="0" tIns="0" bIns="0" anchor="t">
                      <a:noAutofit/>
                    </a:bodyPr>
                    <a:p>
                      <a:pPr marL="228600" indent="-228600" algn="ctr">
                        <a:spcAft>
                          <a:spcPts val="131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eeec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228600" indent="-228600" algn="ctr">
                        <a:lnSpc>
                          <a:spcPct val="100000"/>
                        </a:lnSpc>
                        <a:spcAft>
                          <a:spcPts val="131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ATTENTION!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38160">
                      <a:solidFill>
                        <a:srgbClr val="e6d099"/>
                      </a:solidFill>
                    </a:lnB>
                    <a:solidFill>
                      <a:srgbClr val="ed6b46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228600" indent="-228600" algn="ctr">
                        <a:spcAft>
                          <a:spcPts val="131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eeec6"/>
                    </a:solidFill>
                  </a:tcPr>
                </a:tc>
              </a:tr>
              <a:tr h="3338640">
                <a:tc gridSpan="3">
                  <a:txBody>
                    <a:bodyPr lIns="228600" rIns="228600" tIns="228600" bIns="137160" anchor="t">
                      <a:noAutofit/>
                    </a:bodyPr>
                    <a:p>
                      <a:pPr>
                        <a:tabLst>
                          <a:tab algn="l" pos="0"/>
                          <a:tab algn="ctr" pos="1776240"/>
                          <a:tab algn="l" pos="21686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me verbs used only in the third person singular, including some used in impersonal expressions, have irregular present subjunctive forms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ctr" pos="1776240"/>
                          <a:tab algn="l" pos="21686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oir 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0" i="1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be worth it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: qu’il </a:t>
                      </a: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ille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ctr" pos="1776240"/>
                          <a:tab algn="l" pos="21686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lloir 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0" i="1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be necessary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: qu’il </a:t>
                      </a: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ille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ctr" pos="1776240"/>
                          <a:tab algn="l" pos="21686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euvoir 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0" i="1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rain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: qu’il </a:t>
                      </a: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euve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ctr" pos="1776240"/>
                          <a:tab algn="l" pos="21686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 ne pense pas que ça en vaille la peine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ctr" pos="1776240"/>
                          <a:tab algn="l" pos="21686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don’t think it’s worth the effort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28600" marR="228600">
                    <a:lnL>
                      <a:noFill/>
                    </a:lnL>
                    <a:lnR>
                      <a:noFill/>
                    </a:lnR>
                    <a:lnT w="38160">
                      <a:solidFill>
                        <a:srgbClr val="e6d099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eeec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1T19:11:18Z</dcterms:created>
  <dc:creator>© and ® 2011 Vista Higher Learning, Inc.</dc:creator>
  <dc:description/>
  <dc:language>en-US</dc:language>
  <cp:lastModifiedBy>Ursuline Academy</cp:lastModifiedBy>
  <dcterms:modified xsi:type="dcterms:W3CDTF">2015-01-07T15:53:09Z</dcterms:modified>
  <cp:revision>168</cp:revision>
  <dc:subject>D'accord! 3 • Leçon 6: Leçon 6: Les générations qui bougent</dc:subject>
  <dc:title>6.1 The subjunctive: impersonal expressions; will, opinion, and emotion</dc:title>
</cp:coreProperties>
</file>